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41D-2FB0-40CC-A2E5-3BE01E01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CD6-92A4-4A72-B21B-15B7AC37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EA1-0B51-4483-9C3F-D87A88D2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EA2-C7C4-4748-A773-9224AFF8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0C3-EF3A-42DD-98ED-25A2F2FE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8F4-409C-4DDB-9075-B1AE0C3E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CC7-416A-4B9F-83E6-E6C20A9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A08-B311-4ABA-84F1-A856717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1AC-3073-4762-9C31-61AFC20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765-6C5F-42B6-9EFF-FC3E179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84E-77C9-4DA9-B7EB-4C3F8EE5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235-D114-4263-B284-30FCF44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FC15-B3B0-4378-A3B5-00AEFE49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ppalach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Heart of Who 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673800">
            <a:off x="428760" y="358560"/>
            <a:ext cx="2931840" cy="210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735400">
            <a:off x="5562360" y="4343040"/>
            <a:ext cx="3139920" cy="1973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3301920" cy="215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510552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tereotypes Associated with People from Appalach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unning water in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e-foot and preg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 on blocks in 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3720" y="2057400"/>
            <a:ext cx="419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llbi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d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ountaine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&amp; Appalachian Americans (we prefer just plain Americ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57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People from This Area Have Been Called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. .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ultu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amily Solida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yalty runs deep, extends beyond immediate family, “blood is thicker than wa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rce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spitality, pride, self-reliance, neighbor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38720" y="17413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ultural Characteristic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 Gender Roles (men &amp; women assume specific roles in the family, church, and work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es to the Land (love the environment and their ho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510600">
            <a:off x="375840" y="38653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13800">
            <a:off x="5341680" y="3573000"/>
            <a:ext cx="3276360" cy="2603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re Cultu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nse of Fatalism (belief that events in life are determined by powers beyond one’s control - - G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490800">
            <a:off x="2057400" y="1600200"/>
            <a:ext cx="4495680" cy="2338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9b1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ven More Cultur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ve US flag,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nse of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seem dour, but laughs at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desty &amp; Being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ne should not put on airs or get above their ra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725200">
            <a:off x="838080" y="4571640"/>
            <a:ext cx="3810240" cy="1832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457400">
            <a:off x="719280" y="1652760"/>
            <a:ext cx="3047760" cy="286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0:34:27Z</dcterms:created>
  <dc:creator>Bill </dc:creator>
  <dc:description/>
  <dc:language>en-US</dc:language>
  <cp:lastModifiedBy>Faculty</cp:lastModifiedBy>
  <dcterms:modified xsi:type="dcterms:W3CDTF">2008-08-27T17:38:30Z</dcterms:modified>
  <cp:revision>3</cp:revision>
  <dc:subject/>
  <dc:title>Appalachia </dc:title>
</cp:coreProperties>
</file>